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3AFF-307A-419D-8730-65EA0CF0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48740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36C8-5405-4326-9395-03624BB6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40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36A-2EFD-4114-8FF5-F9AD50EA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216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536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216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536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C2DB-4666-4C65-B98B-ED95914C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52F1-2E0E-40BE-A6CB-0E8E393D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67AE-D166-4834-813A-21EB5814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491B-51CC-4EC8-8832-9FD81D28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FFD8-FB84-4985-8C77-D2BBD07E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A73A-FDD1-45B9-AEF0-EC8C335C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143000"/>
            <a:ext cx="678168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C3B1-64A0-4D56-AA72-D442E219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37C6-6DF9-4B55-8531-AB8DE7FE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4A79-7A9F-4568-8EC1-8F6209E5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9440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7BCF-F84E-4BFA-BBA2-6D1172FB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EA07-953B-4489-8EB9-8DBCF55D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48740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2606-CEE5-44E6-9048-3863BD3E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9440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34BC-1D7B-46D2-9B15-C354FF09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216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0536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216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0536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6901-A534-4A5C-A738-90C51874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B76AA-890A-49CD-882F-EB4FE2B3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1F823-D4E7-4BB0-93C9-55504D09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F10C3-172A-435E-B65B-90437DD2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2CA26-6537-4955-AAC2-A9F6D3C9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A2688-AEAF-4D0E-9FC7-DB666513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0E00-BC07-46D7-B6BA-A64B4DD0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219320" y="1143000"/>
            <a:ext cx="678168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A85BC-BD5E-45A3-80B4-96E65675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5632F-ABEC-4322-A0A3-9E34BFF3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9440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A1EF7-19FC-40DD-B54B-77DD1322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377E5-0BBA-4062-858C-0A041F9F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19320" y="448740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9DEC2-2134-4E7F-9E72-D2FCDFCD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9440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97010-62C9-405A-BC71-F23636D8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1216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805360" y="289512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1932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1216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805360" y="4487400"/>
            <a:ext cx="2183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03CB6-EFBB-45E2-9628-1D656B25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68F-FFBA-4547-891C-92BBE6CA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9C4F-98E1-4BDB-B42E-D386D0AE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143000"/>
            <a:ext cx="678168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AF3A-8C71-4E9A-BC21-E2C3C6CF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D0A2-03EF-4D5F-9BE0-95858BC0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400" y="448740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EFA7-20A9-4445-BD39-AD60ED6B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400" y="2895120"/>
            <a:ext cx="3309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487400"/>
            <a:ext cx="67816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DD9-FCCE-47DC-803E-9C3809FE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-166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01560" indent="-1666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01560" indent="-1666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01560" indent="-1666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0520" y="61722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2F3E-A63B-4FD2-862B-DBBEA6C48B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-166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01560" indent="-1666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01560" indent="-1666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01560" indent="-1666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010280" y="617220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33520" y="617220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81ED-37A8-4A24-A519-884FC5B124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-166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01560" indent="-1666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01560" indent="-1666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01560" indent="-1666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0E82-7C9D-4D75-A682-D07A346DFA7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h2GIHPd41eY" TargetMode="External"/><Relationship Id="rId2" Type="http://schemas.openxmlformats.org/officeDocument/2006/relationships/hyperlink" Target="http://www.history.com/topics/exploration/exploration-of-north-america/videos/did-the-chinese-discover-america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67820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Guangzhou Warmups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1527120"/>
            <a:ext cx="87631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do people travel? (both past and presen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nformation might be contained in a traveler's accoun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might be important to know about the writer? Why? (race, gender, class, religion, etc…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Improved Technology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ED for long voy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Sh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angle-shaped sails (against or with the wind), ---Islamic Emp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masts: Move fa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avels: All improve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 in these new 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caravel"/>
          <p:cNvPicPr/>
          <p:nvPr/>
        </p:nvPicPr>
        <p:blipFill>
          <a:blip r:embed="rId1"/>
          <a:stretch/>
        </p:blipFill>
        <p:spPr>
          <a:xfrm>
            <a:off x="6276960" y="3200400"/>
            <a:ext cx="2867040" cy="3657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galleon"/>
          <p:cNvPicPr/>
          <p:nvPr/>
        </p:nvPicPr>
        <p:blipFill>
          <a:blip r:embed="rId2"/>
          <a:stretch/>
        </p:blipFill>
        <p:spPr>
          <a:xfrm>
            <a:off x="0" y="4648320"/>
            <a:ext cx="1817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Other innovations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trolabe – Helped determi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tic compass: Chinese directional tool (brought by the Silk Roa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astrolabe%25203"/>
          <p:cNvPicPr/>
          <p:nvPr/>
        </p:nvPicPr>
        <p:blipFill>
          <a:blip r:embed="rId1"/>
          <a:stretch/>
        </p:blipFill>
        <p:spPr>
          <a:xfrm>
            <a:off x="6407280" y="2971800"/>
            <a:ext cx="2736720" cy="3886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MMj03005550000[1]"/>
          <p:cNvPicPr/>
          <p:nvPr/>
        </p:nvPicPr>
        <p:blipFill>
          <a:blip r:embed="rId2"/>
          <a:stretch/>
        </p:blipFill>
        <p:spPr>
          <a:xfrm>
            <a:off x="2133720" y="3630600"/>
            <a:ext cx="35049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Explorer Challenge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pages 553-559 to find the correct explorer and the date that corresponds with the accomplishment giv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457200" y="0"/>
          <a:ext cx="8229600" cy="7147080"/>
        </p:xfrm>
        <a:graphic>
          <a:graphicData uri="http://schemas.openxmlformats.org/drawingml/2006/table">
            <a:tbl>
              <a:tblPr/>
              <a:tblGrid>
                <a:gridCol w="2778120"/>
                <a:gridCol w="5451480"/>
              </a:tblGrid>
              <a:tr h="67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EXPLORER &amp; YEA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ACCOMPLISHM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COLUMBUS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(149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Discovered the New World; Believed he reached the East Ind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BRAL (1500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Reached Brazil and claimed it for Portug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SPUCCI (150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Traveled the coast of South America; Claimed the land was not Asia but a “New” Worl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GELLAN (152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Credited with sailing around the worl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RTES (152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Conquered the Aztec Empire in Me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ZARRO (1533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Conquered the Inca Empire in Per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NCE DE LEON (1513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Landed on the coast of Florida and claimed it for Sp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RON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1540-154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Searched Arizona, New Mexico, Texas, Oklahoma, &amp; Kansas searching for gol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 Black"/>
              </a:rPr>
              <a:t>China Limits European Contact</a:t>
            </a:r>
            <a:endParaRPr b="0" lang="en-US" sz="36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Age of Exploration, China ruled by Ming &amp; Qing Dynas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G DYNAS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ed by Hong Wu: Brought peace &amp; s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nglo (Hong’s son) next emper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apital moved to Beij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Launched voyages of exp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 voyages of exp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ll led by Admiral Zheng 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Sent to foreign ports: Shared gifts to show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eri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1433: Withdrew into iso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e policies: Reflected iso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onducted by government in 3 cit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line: Manchu invaders conqu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5" descr="voyages-of-zheng-he-map-06-04"/>
          <p:cNvPicPr/>
          <p:nvPr/>
        </p:nvPicPr>
        <p:blipFill>
          <a:blip r:embed="rId1"/>
          <a:stretch/>
        </p:blipFill>
        <p:spPr>
          <a:xfrm>
            <a:off x="1752480" y="4343400"/>
            <a:ext cx="5486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QING (CHING) DYNASTY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ed by Manch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ried to blend w/Chinese customs   WHY? To earn respect of Chinese (outnumbered 30 to 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anded China’s borders: Included Taiwan, Mongolia, &amp; Tib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chus continued Chinese iso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o Chinese: Country was cultural center of the unive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Foreign countries must follow Chinese rules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line: Corruption &amp; rebell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447920" y="3809880"/>
            <a:ext cx="6248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3" descr="world-map"/>
          <p:cNvPicPr/>
          <p:nvPr/>
        </p:nvPicPr>
        <p:blipFill>
          <a:blip r:embed="rId1"/>
          <a:stretch/>
        </p:blipFill>
        <p:spPr>
          <a:xfrm>
            <a:off x="0" y="0"/>
            <a:ext cx="914400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0200" y="-6480"/>
            <a:ext cx="6781680" cy="13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Written Response 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371600"/>
            <a:ext cx="4533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pic #1 and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alysis/so wha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Arial"/>
              </a:rPr>
              <a:t>Topic #2 and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Arial"/>
              </a:rPr>
              <a:t>Analysis/so wha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Topic #3 and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Analysis/so wha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 or final an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6120" y="1371600"/>
            <a:ext cx="4305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 (Context, thesis + topi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Arial"/>
              </a:rPr>
              <a:t>Topic Sentence that matches idea to 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d5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edff"/>
                </a:solidFill>
                <a:latin typeface="Arial"/>
              </a:rPr>
              <a:t>Subtopic 1, docs/evidence &amp;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V or rel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ransition/Co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7820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Getting Started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ness doesn’t just happen, it requires motiv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some of the greatest motivators in the worl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motivates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sometimes happens when many people all try to be great at the same th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 Black"/>
              </a:rPr>
              <a:t>Exploration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47920" y="3809880"/>
            <a:ext cx="6248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he Nations Facing Expl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Status of Affairs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ices &amp; luxury goods in great demand from Asia &amp; East Ind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aly was wealthy and the fancy of Europe (results in competiti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ther rivals look for quicker routes, ways to compete (wars, privateers, colonie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6" descr="MMj03033130000[1]"/>
          <p:cNvPicPr/>
          <p:nvPr/>
        </p:nvPicPr>
        <p:blipFill>
          <a:blip r:embed="rId1"/>
          <a:stretch/>
        </p:blipFill>
        <p:spPr>
          <a:xfrm>
            <a:off x="6629400" y="4992840"/>
            <a:ext cx="274320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Motives for Exploration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LD: Desire for new sources of w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king trade with 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alians &amp; Muslims already controlled the 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: Spread Christian teac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ty was convert non-Christ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RY: To fulfill Renaissance ideas of adventure, discovery &amp; personal achie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gold_bars"/>
          <p:cNvPicPr/>
          <p:nvPr/>
        </p:nvPicPr>
        <p:blipFill>
          <a:blip r:embed="rId1"/>
          <a:stretch/>
        </p:blipFill>
        <p:spPr>
          <a:xfrm>
            <a:off x="0" y="5614920"/>
            <a:ext cx="1523880" cy="1243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ross"/>
          <p:cNvPicPr/>
          <p:nvPr/>
        </p:nvPicPr>
        <p:blipFill>
          <a:blip r:embed="rId2"/>
          <a:stretch/>
        </p:blipFill>
        <p:spPr>
          <a:xfrm>
            <a:off x="3352680" y="5375160"/>
            <a:ext cx="1981440" cy="1482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Liverpool__Champion_192958c"/>
          <p:cNvPicPr/>
          <p:nvPr/>
        </p:nvPicPr>
        <p:blipFill>
          <a:blip r:embed="rId3"/>
          <a:stretch/>
        </p:blipFill>
        <p:spPr>
          <a:xfrm>
            <a:off x="6553080" y="5108400"/>
            <a:ext cx="259092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141" name="Content Placeholder 6" descr=""/>
          <p:cNvPicPr/>
          <p:nvPr/>
        </p:nvPicPr>
        <p:blipFill>
          <a:blip r:embed="rId1"/>
          <a:srcRect l="1307" t="31590" r="14446" b="7637"/>
          <a:stretch/>
        </p:blipFill>
        <p:spPr>
          <a:xfrm>
            <a:off x="0" y="33480"/>
            <a:ext cx="9093240" cy="49194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7"/>
          <p:cNvSpPr/>
          <p:nvPr/>
        </p:nvSpPr>
        <p:spPr>
          <a:xfrm>
            <a:off x="76320" y="4903920"/>
            <a:ext cx="9067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d2e"/>
                </a:solidFill>
                <a:latin typeface="Arial"/>
              </a:rPr>
              <a:t>1) How are the Maps Similar?</a:t>
            </a:r>
            <a:br>
              <a:rPr sz="2800"/>
            </a:br>
            <a:r>
              <a:rPr b="1" lang="en-US" sz="2800" spc="-1" strike="noStrike">
                <a:solidFill>
                  <a:srgbClr val="001d2e"/>
                </a:solidFill>
                <a:latin typeface="Arial"/>
              </a:rPr>
              <a:t>2) How are the Maps different?</a:t>
            </a:r>
            <a:br>
              <a:rPr sz="2800"/>
            </a:br>
            <a:r>
              <a:rPr b="1" lang="en-US" sz="2800" spc="-1" strike="noStrike">
                <a:solidFill>
                  <a:srgbClr val="001d2e"/>
                </a:solidFill>
                <a:latin typeface="Arial"/>
              </a:rPr>
              <a:t>3) As time goes on what changes?</a:t>
            </a:r>
            <a:br>
              <a:rPr sz="2800"/>
            </a:br>
            <a:r>
              <a:rPr b="1" lang="en-US" sz="2800" spc="-1" strike="noStrike">
                <a:solidFill>
                  <a:srgbClr val="001d2e"/>
                </a:solidFill>
                <a:latin typeface="Arial"/>
              </a:rPr>
              <a:t>4) Why was mapmaking so important to Explorers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920" y="7632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 Black"/>
              </a:rPr>
              <a:t>Is it possible that Zheng He made it to America?</a:t>
            </a:r>
            <a:endParaRPr b="0" lang="en-US" sz="36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paragraph giving your thoughts on the question above (using both videos and the read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ealth, skill, materials of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ps and possible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definitive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War in the Ancient World (22:10 – en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9min starts Zheng He p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hole Clip: four minutes from History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AgeExpMap"/>
          <p:cNvPicPr/>
          <p:nvPr/>
        </p:nvPicPr>
        <p:blipFill>
          <a:blip r:embed="rId1"/>
          <a:stretch/>
        </p:blipFill>
        <p:spPr>
          <a:xfrm>
            <a:off x="228600" y="380880"/>
            <a:ext cx="86868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4:39:54Z</dcterms:created>
  <dc:creator>School District</dc:creator>
  <dc:description/>
  <dc:language>en-US</dc:language>
  <cp:lastModifiedBy>Administrator</cp:lastModifiedBy>
  <dcterms:modified xsi:type="dcterms:W3CDTF">2016-12-07T14:27:55Z</dcterms:modified>
  <cp:revision>27</cp:revision>
  <dc:subject/>
  <dc:title>Expl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21033</vt:lpwstr>
  </property>
</Properties>
</file>